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1037-F922-4D6D-B53D-536B31A38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2AA5-2A1B-4874-B120-FB0749C2F65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3D7-6AF3-4A88-8C2E-4CA2F854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F54-EF04-4B4B-B1B2-9464292D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609-0177-4BD1-9939-8D6FC1EC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BE6-9B97-4CDE-AFF8-720191B2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B907-49A4-4F76-B8E7-D47F74A0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783B-C601-420C-AD9C-35E29F3D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4A75-A0EA-47F1-A7AF-BFFCBC12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0405-A438-4AF2-BA37-2DBEA19D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A2B9-0451-4DE4-A7FC-8B414151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E801-7416-4AC3-A9D5-EDE9B471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4A57-9E29-400D-B75F-93449D0A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A39-12AE-4AE0-A62C-231E27E9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7961-7E85-4FFD-A80B-8ECF0756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4EDD-E52B-482B-8002-5576C5BB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B59A-DF3D-4C49-A7D5-687744EC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ED3C-6ED0-4353-91FA-029E361E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9391-4836-475F-88CB-FE110077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075-DE12-4611-95CB-FAE60F88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F484-A782-48A3-B1E5-23E5EF60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C78-B84B-4B24-A3CC-98C7308D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2C6-5052-46C3-A6D9-BD0D9DB7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DE3-FA25-46C3-BD19-7707E97C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698-3B85-419A-912F-FDD2BFC5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F97-0332-469B-8FCE-EBD3A5D2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459F-C7D7-49A2-A75F-BA5A3563C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4674-369F-40C6-890E-6C971F0532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OMMERCIAL REVOLUTION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16th century: approx. 1500-170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(cont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71160"/>
            <a:ext cx="6324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orts of silver from the New World and population growth led t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infl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– effected the poor and peasants the mos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downers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ercha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artisan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grow ric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reinvest money in exploration ventur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opulation grow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 enclosure pushed people of the land into c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ariff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heavy taxes placed on foreign goods to protect home industr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5" descr="https://encrypted-tbn0.gstatic.com/images?q=tbn:ANd9GcTXHFh7EDj4RYKBUvRyNagCSnqhijzhR74eEosd7_JWD0L7II-dNw"/>
          <p:cNvPicPr/>
          <p:nvPr/>
        </p:nvPicPr>
        <p:blipFill>
          <a:blip r:embed="rId1"/>
          <a:stretch/>
        </p:blipFill>
        <p:spPr>
          <a:xfrm>
            <a:off x="6477120" y="2286000"/>
            <a:ext cx="25146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– Longer Ter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 in guilds – replaced by domestic system where raw goods were sent to individuals to produce final product at h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urred Industrial Revolution by providing increased resources and encouraging consumer demand for finished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– Longer Ter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lonization will lead t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orced lab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 of natives, then Africans as slav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use of native peoples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struction of culture and Meso/South-American popul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diseas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http://4.bp.blogspot.com/-Wgxb_4PsLa4/T--pNvuiccI/AAAAAAAAAZ0/7wtKNtVhTps/s1600/Spanish+and+Aztecs.jpg"/>
          <p:cNvPicPr/>
          <p:nvPr/>
        </p:nvPicPr>
        <p:blipFill>
          <a:blip r:embed="rId1"/>
          <a:stretch/>
        </p:blipFill>
        <p:spPr>
          <a:xfrm>
            <a:off x="2209680" y="3809880"/>
            <a:ext cx="394344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– Longer Ter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971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ultural Diffus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f western beliefs to New Worl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mographic shif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migrations of peoples (Europeans for opportunities, Africans as labo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mpeti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etween European nations states leading to eventual world wa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2" descr="http://www.waywelivednc.com/maps/historical/middle-passage.gif"/>
          <p:cNvPicPr/>
          <p:nvPr/>
        </p:nvPicPr>
        <p:blipFill>
          <a:blip r:embed="rId1"/>
          <a:stretch/>
        </p:blipFill>
        <p:spPr>
          <a:xfrm>
            <a:off x="2514600" y="3645000"/>
            <a:ext cx="375120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“Change”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witch from land-based manorialism as the main economic system to one based on capital (i.e. mone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ignificance: brought about age of discovery and explora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6" name="Picture 5" descr="http://mrscarafiello.weebly.com/uploads/6/0/5/9/6059361/5673237_orig.jpg?654"/>
          <p:cNvPicPr/>
          <p:nvPr/>
        </p:nvPicPr>
        <p:blipFill>
          <a:blip r:embed="rId1"/>
          <a:stretch/>
        </p:blipFill>
        <p:spPr>
          <a:xfrm>
            <a:off x="1447920" y="2133720"/>
            <a:ext cx="6207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use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00440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pulation growth: 60 million in 1400; 75 million in 1500; 100 million in 16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re for spices and luxury goods without having to use expensive Italian merchants or Muslims (Turks blocked land rout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ise of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pitali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laissez-faire):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trepreneu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; bourgeoisie at the forefro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http://www.schillerinstitute.org/graphics/graphs/gallagher_population_article/fig-2.jpg"/>
          <p:cNvPicPr/>
          <p:nvPr/>
        </p:nvPicPr>
        <p:blipFill>
          <a:blip r:embed="rId1"/>
          <a:stretch/>
        </p:blipFill>
        <p:spPr>
          <a:xfrm>
            <a:off x="4572000" y="3429000"/>
            <a:ext cx="41338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pitalis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pitalism had existed in some forms in antiquity, but faded away with manorial system of the Middle Ag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vestment and money lending (usury) limited by Church la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vived in the late Middle Ages through trade (Hanseatic League) and population grow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trepreneurs ignore church laws banning usury, leading to growth in bank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5" descr="http://ncronline.org/sites/default/files/styles/article_slideshow/public/stories/images/11092012p18ph.jpg?itok=PfILK6I6"/>
          <p:cNvPicPr/>
          <p:nvPr/>
        </p:nvPicPr>
        <p:blipFill>
          <a:blip r:embed="rId1"/>
          <a:stretch/>
        </p:blipFill>
        <p:spPr>
          <a:xfrm>
            <a:off x="5568840" y="2209680"/>
            <a:ext cx="39117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uses (cont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ed better navigational techniques, maps (printing press)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strolab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narchs needed wealth to consolidate their power to beco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BSOLUTE MONARCH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re to spread Catholic faith. (especially with rise of Protestant movement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2" descr="http://upload.wikimedia.org/wikipedia/commons/9/90/Astrolabe_(PSF).png"/>
          <p:cNvPicPr/>
          <p:nvPr/>
        </p:nvPicPr>
        <p:blipFill>
          <a:blip r:embed="rId1"/>
          <a:stretch/>
        </p:blipFill>
        <p:spPr>
          <a:xfrm>
            <a:off x="762120" y="4237200"/>
            <a:ext cx="3352680" cy="230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static.ddmcdn.com/gif/astrolabe-1.jpg"/>
          <p:cNvPicPr/>
          <p:nvPr/>
        </p:nvPicPr>
        <p:blipFill>
          <a:blip r:embed="rId2"/>
          <a:stretch/>
        </p:blipFill>
        <p:spPr>
          <a:xfrm>
            <a:off x="5410080" y="4103640"/>
            <a:ext cx="243072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e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nk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dic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Florence.  Would lend out money to individuals, countries, and even Popes.  Charge interest and could inves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oint-Stock Companie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ke Dutch East India Company) – merchants combine funds to raise large amount of capital – each partner received a share in proportion to contribution.  This enabled expensive adventures with minimal risk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 Rise of the Middle Class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rgesses, bourgeoisi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– nobles looked down on them because not of high birth, church looked down on them for capitalist ideas, monarchy liked because could ta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(cont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7720" y="15235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rcantilism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economic system in which the nation-state carefully controls most economic activities, especially colonies, in order to strengthen a nation’s economic wealth and power (measured by gold and silver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5-Point Star 4"/>
          <p:cNvSpPr/>
          <p:nvPr/>
        </p:nvSpPr>
        <p:spPr>
          <a:xfrm>
            <a:off x="266760" y="45720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90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9" y="407480"/>
                </a:lnTo>
                <a:lnTo>
                  <a:pt x="789790" y="659316"/>
                </a:lnTo>
                <a:lnTo>
                  <a:pt x="924706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6"/>
                </a:lnTo>
                <a:lnTo>
                  <a:pt x="1" y="40748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5-Point Star 6"/>
          <p:cNvSpPr/>
          <p:nvPr/>
        </p:nvSpPr>
        <p:spPr>
          <a:xfrm>
            <a:off x="152280" y="2438280"/>
            <a:ext cx="1143000" cy="106704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90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9" y="407480"/>
                </a:lnTo>
                <a:lnTo>
                  <a:pt x="789790" y="659316"/>
                </a:lnTo>
                <a:lnTo>
                  <a:pt x="924706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6"/>
                </a:lnTo>
                <a:lnTo>
                  <a:pt x="1" y="40748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2" descr="https://globalimperialism.wikispaces.com/file/view/merc._pic.JPG/116057177/800x303/merc._pic.JPG"/>
          <p:cNvPicPr/>
          <p:nvPr/>
        </p:nvPicPr>
        <p:blipFill>
          <a:blip r:embed="rId1"/>
          <a:stretch/>
        </p:blipFill>
        <p:spPr>
          <a:xfrm>
            <a:off x="304920" y="4267080"/>
            <a:ext cx="6210360" cy="2355840"/>
          </a:xfrm>
          <a:prstGeom prst="rect">
            <a:avLst/>
          </a:prstGeom>
          <a:ln w="0">
            <a:noFill/>
          </a:ln>
        </p:spPr>
      </p:pic>
      <p:sp>
        <p:nvSpPr>
          <p:cNvPr id="144" name="Left Arrow 8"/>
          <p:cNvSpPr/>
          <p:nvPr/>
        </p:nvSpPr>
        <p:spPr>
          <a:xfrm>
            <a:off x="6324480" y="4267080"/>
            <a:ext cx="2210040" cy="2438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oal –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Favorable Balance of Trad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(cont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ploration &amp; Colon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ed to enrich home country.  They would send raw materials to mother country where a finish product was made.  The colony would then be forced to buy the finished product at a profi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mercantilism"/>
          <p:cNvPicPr/>
          <p:nvPr/>
        </p:nvPicPr>
        <p:blipFill>
          <a:blip r:embed="rId1"/>
          <a:stretch/>
        </p:blipFill>
        <p:spPr>
          <a:xfrm>
            <a:off x="1066680" y="4672080"/>
            <a:ext cx="66294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1:03:09Z</dcterms:created>
  <dc:creator>MSJ</dc:creator>
  <dc:description/>
  <dc:language>en-US</dc:language>
  <cp:lastModifiedBy>Lyons, Anne</cp:lastModifiedBy>
  <dcterms:modified xsi:type="dcterms:W3CDTF">2013-04-17T11:08:23Z</dcterms:modified>
  <cp:revision>7</cp:revision>
  <dc:subject/>
  <dc:title>COMMERCIAL REVOLUTION</dc:title>
</cp:coreProperties>
</file>